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DEF-8652-4568-B2D5-0EA9D141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3F0B-700D-40B0-AB93-1FBC732D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CA0F-560E-477C-929A-6D41972F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B1AD-2DD3-4173-8757-9751BB09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847A-E11B-4457-8B6C-2BF14C96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BB47-F514-4770-B94C-3943ED4D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0ACC-C2A7-435D-A6D0-138FA5B8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5AC7-BCE6-4C1F-B5CF-FA0402B5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23AB-1EE2-4B8B-88AC-C104BF28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2012-84ED-4B92-B6CE-71129071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068C-BEB6-4362-856A-CD74EFF0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4903-3734-4EF5-95A3-0670D254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ECA0-951D-4550-A4AC-50F34269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7843-4912-4313-BC13-D03AD6F6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A90F-EF63-4489-8966-1F6B256A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F4B7-7D5E-4382-A617-549835B4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216C-71EF-40DF-B5F1-4AACBC2E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2C7E-844B-4888-B898-FBDFE92F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6FB-902A-4C14-8259-C210294A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5700-1C3F-4E0D-B233-1A111DBA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4D11-36E7-402E-A133-F5A0E47C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D2E-F1B8-4826-B87C-0C48C7FA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5203-8348-44F0-BB4B-9994C6EB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8E9F-3F9A-4F19-B07A-90D66817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B9E8-897E-4ADF-B69C-057F106C8A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B4E4-0B76-4057-AE9A-B69327CCD6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blem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720" y="24379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can they gain enough money for the renovation of their kitch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are from India and they lack resourc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1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Century Skill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 Identification, Formulation, and Solu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f-Dir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need to provide a program for them to be able to monitor their expen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21:17:58Z</dcterms:created>
  <dc:creator>madrid</dc:creator>
  <dc:description/>
  <dc:language>en-US</dc:language>
  <cp:lastModifiedBy>madrid</cp:lastModifiedBy>
  <dcterms:modified xsi:type="dcterms:W3CDTF">2012-06-27T21:59:19Z</dcterms:modified>
  <cp:revision>2</cp:revision>
  <dc:subject/>
  <dc:title>Problem: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